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2.jpeg" ContentType="image/jpe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3E515-1A37-4DEE-8C46-EB33822A4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AB46-0BD3-4D9E-9E6E-DC99AF55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DCEB8-5048-49C7-98B6-0CF8C2EA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C6B0B-0E0B-44B4-99F0-CA5232090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235BC-E3FD-4E70-839C-886BA725A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1238C-3F69-4C7A-9B29-E66C81143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EE1BD-0B93-433E-9132-375A4951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84CF0-DF8E-40B2-84D7-EF081701B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FD6D5-CA79-4A94-87C7-75D77235D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1CF9F-EB24-4504-9845-D62AD92A7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F261F-3F0B-4034-A725-6D34CCCB0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28515-DB96-4C8F-83B6-2B70E834A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A144B-D132-444D-8501-B7269EA2F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29BBB-B731-4D8D-A9C2-64D03071A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44895-579C-4115-9176-40F6AEAB6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42A3D-4D2F-4CD7-8636-6F04F27FF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200EB-C93D-4253-AA05-180D064CE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8A65E4-4F59-4E11-8266-F7322740B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190F2-7584-47E8-AFBB-CC7E88042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0B936-807F-4367-B740-0FB61CC6F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2AD7D-7F51-4E8C-BB37-4613BADFB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9FDBF-43CB-4236-8439-64C6B0DB4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BB46-380E-4D22-AF58-B6AFDFB5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3B4C6-3E56-4EDA-8638-95360077E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63B06-9F78-48BE-8C6D-834BF331A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49A28-9C32-4310-A93A-B73F5C0E2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B9DB4-D714-4234-BD30-DEFEE6E01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A98AE7-A34E-4E66-B8C6-832C38A20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F094BC-8C01-44D7-B8DE-792749FC8C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D9FE2-B48F-445D-8AF9-E75B8F676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12249-CE87-44A7-A93E-7835076BBB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908C4-88EC-49E8-8763-7F8F3D4C7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DC13A-EF05-415D-9E2D-FEE1F1DB0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94B8-13C9-44E2-BF97-FE36C68B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51EE1C-AD9F-41A2-80FB-F7E39FF40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0D5DB-9755-494E-B102-BF4CD5F98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FC38C-D970-465B-8D97-4BCA204D3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BF008-3859-406F-83EF-79AC7501D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05B54-6379-49BC-A881-851946E0C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E94E4-4EC7-449D-AF90-95705A247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770F1-5800-4329-99AC-F5512676E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92E7E9-2BCE-476B-BA70-2F4260994D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D4A8D-0F8C-4620-ABA0-30EA4CCDB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F55AF-9905-419B-BA12-61B44BF26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68BF-5D79-4C39-8770-7C08AB8D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2B31B-A6A2-44E1-A730-341954F13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34FAC-FDBD-45BB-AADD-91CF58236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11E09-29BD-4294-B151-E4ED33BF69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9A736-092E-4748-9EEC-01C939961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75035-19CA-4B0B-ADF9-8A709F516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3EDF1-751F-4F18-8D23-1244C0BF5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65267-FCDD-4405-8B41-60247F470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DCD64-4388-4DE4-8562-2917E8C64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264D7-FB59-4892-903F-672A4357E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98D4E7-187E-40B2-9449-FADA3FB66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7915-A2EC-4EF1-A9B2-334D0B98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A55ECA-5A59-4C4C-B40D-8AFA5DAEC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D0760B5-5037-442D-AC51-AA47147D8B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136B62-9BE8-4F6C-90C4-36A366D97C5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8FB162-C03B-4293-8E01-C11957AC79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4C7291-9FDA-4E8C-B3ED-E8E292DF14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682A789-FB3E-4FB5-BBE7-A359E0A1A1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D3E1E6-B093-4E85-A6C3-0624BEA6E97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9627B0-DA74-4E87-AB08-86C813F1C9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FA3CB4-C62C-45B0-8205-734FEC5CB7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B5AD66-0765-4E71-8000-C6DACCB010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BBB4-3E8D-4A24-A25B-144432410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351940-D94C-41F1-A124-A67311F524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3D21BB0-9374-494F-8076-F7FC7EDFBC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FD25991-D353-438A-8ED4-778061A6B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A638-0578-4E25-9621-6B5F1FC1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AE1E-2F46-4F38-A1D2-8487372D5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5F4504BB-F858-4C76-8ABC-2508E0CD4C49}"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14B4E654-0E30-4DD0-9849-D718786B40C6}"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DB7012A8-1620-4B6C-9345-472060BCBF90}"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4A2BB229-2DF4-4832-806A-0B34C3761B38}"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75CD7655-26E7-42EE-94AD-841C2303020B}"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6F7410B4-5D76-45ED-B191-F7CEA8390B56}"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orth Carolina End-of-Grade (EOG) is designed to measure student performance on the competencies specified in the goals and objectives of the Standard Course of Study in science at grade 8.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est is used to determine science class placement in high school and is used in determining the school AYP scor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67" descr=""/>
          <p:cNvPicPr/>
          <p:nvPr/>
        </p:nvPicPr>
        <p:blipFill>
          <a:blip r:embed="rId1"/>
          <a:stretch/>
        </p:blipFill>
        <p:spPr>
          <a:xfrm>
            <a:off x="212760" y="268200"/>
            <a:ext cx="8480520" cy="884160"/>
          </a:xfrm>
          <a:prstGeom prst="rect">
            <a:avLst/>
          </a:prstGeom>
          <a:ln w="0">
            <a:noFill/>
          </a:ln>
        </p:spPr>
      </p:pic>
      <p:graphicFrame>
        <p:nvGraphicFramePr>
          <p:cNvPr id="295"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1150920"/>
          </a:xfrm>
          <a:prstGeom prst="rect">
            <a:avLst/>
          </a:prstGeom>
          <a:ln w="0">
            <a:noFill/>
          </a:ln>
        </p:spPr>
      </p:pic>
      <p:sp>
        <p:nvSpPr>
          <p:cNvPr id="30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Rectangle 2"/>
          <p:cNvSpPr/>
          <p:nvPr/>
        </p:nvSpPr>
        <p:spPr>
          <a:xfrm>
            <a:off x="533520" y="1905120"/>
            <a:ext cx="7162560" cy="3751560"/>
          </a:xfrm>
          <a:prstGeom prst="rect">
            <a:avLst/>
          </a:prstGeom>
          <a:noFill/>
          <a:ln w="0">
            <a:noFill/>
          </a:ln>
        </p:spPr>
        <p:style>
          <a:lnRef idx="0"/>
          <a:fillRef idx="0"/>
          <a:effectRef idx="0"/>
          <a:fontRef idx="minor"/>
        </p:style>
        <p:txBody>
          <a:bodyPr lIns="90000" rIns="90000" tIns="46800" bIns="46800" anchor="t">
            <a:spAutoFit/>
          </a:bodyPr>
          <a:p>
            <a:pPr>
              <a:buClr>
                <a:srgbClr val="b13f9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ience Inquiry</a:t>
            </a: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Measurement-The metric system is use by all Scientists</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Scientific Method- There is a format of which scientist write a formal lab report</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Lab Safety- Special rules apply when in the science laboratory.  These must followed to assure the safety of all!</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755640"/>
          </a:xfrm>
          <a:prstGeom prst="rect">
            <a:avLst/>
          </a:prstGeom>
          <a:ln w="0">
            <a:noFill/>
          </a:ln>
        </p:spPr>
      </p:pic>
      <p:sp>
        <p:nvSpPr>
          <p:cNvPr id="305"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212760" y="317520"/>
            <a:ext cx="7493040" cy="1150920"/>
          </a:xfrm>
          <a:prstGeom prst="rect">
            <a:avLst/>
          </a:prstGeom>
          <a:ln w="0">
            <a:noFill/>
          </a:ln>
        </p:spPr>
      </p:pic>
      <p:sp>
        <p:nvSpPr>
          <p:cNvPr id="309"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17520"/>
            <a:ext cx="7493040" cy="11509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12"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83484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 Marshall is the 8</a:t>
            </a:r>
            <a:r>
              <a:rPr b="0" lang="en-US" sz="2600" spc="-1" strike="noStrike" baseline="30000">
                <a:solidFill>
                  <a:srgbClr val="000000"/>
                </a:solidFill>
                <a:latin typeface="Trebuchet MS"/>
              </a:rPr>
              <a:t>th</a:t>
            </a:r>
            <a:r>
              <a:rPr b="0" lang="en-US" sz="2600" spc="-1" strike="noStrike">
                <a:solidFill>
                  <a:srgbClr val="000000"/>
                </a:solidFill>
                <a:latin typeface="Trebuchet MS"/>
              </a:rPr>
              <a:t>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is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212760" y="317520"/>
            <a:ext cx="7493040" cy="1150920"/>
          </a:xfrm>
          <a:prstGeom prst="rect">
            <a:avLst/>
          </a:prstGeom>
          <a:ln w="0">
            <a:noFill/>
          </a:ln>
        </p:spPr>
      </p:pic>
      <p:sp>
        <p:nvSpPr>
          <p:cNvPr id="31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212760" y="317520"/>
            <a:ext cx="7493040" cy="1150920"/>
          </a:xfrm>
          <a:prstGeom prst="rect">
            <a:avLst/>
          </a:prstGeom>
          <a:ln w="0">
            <a:noFill/>
          </a:ln>
        </p:spPr>
      </p:pic>
      <p:sp>
        <p:nvSpPr>
          <p:cNvPr id="32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317520"/>
            <a:ext cx="7493040" cy="115092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ydrosphere</a:t>
            </a:r>
            <a:endParaRPr b="0" lang="en-US" sz="24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A) Explain the structure of the hydrosphere includ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Water distribution on earth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Local river basin and water availability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B) Summarize evidence that Earth’s oceans are a reservoir of nutrients, minerals, dissolved gases, and life for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Estuari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Marine ecosyste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Upwell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Behavior of gases in the marine environment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Value and sustainability of marine resourc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Deep ocean technology and understandings gained</a:t>
            </a:r>
            <a:endParaRPr b="0" lang="en-US" sz="1900" spc="-1" strike="noStrike">
              <a:solidFill>
                <a:srgbClr val="6c6c6c"/>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609120" y="1143000"/>
            <a:ext cx="8153640" cy="5029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 Predict the safety and portability of water supplies in North Carolina based on physical and biological factors, including: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emperatu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Dissolved oxygen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pH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Nitrates and phosphate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urbid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Bio-indicators </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 Conclude that the good health of humans requires: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onitoring of the hydrosphe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Water quality standard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ethods of water treatment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aintaining safe water qual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Stewardship </a:t>
            </a:r>
            <a:endParaRPr b="0" lang="en-US" sz="18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0"/>
                                        </p:tgtEl>
                                        <p:attrNameLst>
                                          <p:attrName>style.visibility</p:attrName>
                                        </p:attrNameLst>
                                      </p:cBhvr>
                                      <p:to>
                                        <p:strVal val="visible"/>
                                      </p:to>
                                    </p:set>
                                    <p:animEffect filter="fade" transition="in">
                                      <p:cBhvr additive="repl">
                                        <p:cTn id="7" dur="20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12" dur="500"/>
                                        <p:tgtEl>
                                          <p:spTgt spid="271">
                                            <p:txEl>
                                              <p:pRg st="1" end="1"/>
                                            </p:txEl>
                                          </p:spTgt>
                                        </p:tgtEl>
                                      </p:cBhvr>
                                    </p:animEffect>
                                  </p:childTnLst>
                                </p:cTn>
                              </p:par>
                              <p:par>
                                <p:cTn id="13" nodeType="withEffect" fill="hold" presetClass="entr" presetID="22" presetSubtype="8">
                                  <p:stCondLst>
                                    <p:cond delay="0"/>
                                  </p:stCondLst>
                                  <p:childTnLst>
                                    <p:set>
                                      <p:cBhvr>
                                        <p:cTn id="1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15" dur="500"/>
                                        <p:tgtEl>
                                          <p:spTgt spid="271">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18" dur="500"/>
                                        <p:tgtEl>
                                          <p:spTgt spid="271">
                                            <p:txEl>
                                              <p:pRg st="3" end="3"/>
                                            </p:txEl>
                                          </p:spTgt>
                                        </p:tgtEl>
                                      </p:cBhvr>
                                    </p:animEffect>
                                  </p:childTnLst>
                                </p:cTn>
                              </p:par>
                              <p:par>
                                <p:cTn id="19" nodeType="withEffect" fill="hold" presetClass="entr" presetID="22" presetSubtype="8">
                                  <p:stCondLst>
                                    <p:cond delay="0"/>
                                  </p:stCondLst>
                                  <p:childTnLst>
                                    <p:set>
                                      <p:cBhvr>
                                        <p:cTn id="20"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1" dur="500"/>
                                        <p:tgtEl>
                                          <p:spTgt spid="271">
                                            <p:txEl>
                                              <p:pRg st="4" end="4"/>
                                            </p:txEl>
                                          </p:spTgt>
                                        </p:tgtEl>
                                      </p:cBhvr>
                                    </p:animEffect>
                                  </p:childTnLst>
                                </p:cTn>
                              </p:par>
                              <p:par>
                                <p:cTn id="22" nodeType="withEffect" fill="hold" presetClass="entr" presetID="22" presetSubtype="8">
                                  <p:stCondLst>
                                    <p:cond delay="0"/>
                                  </p:stCondLst>
                                  <p:childTnLst>
                                    <p:set>
                                      <p:cBhvr>
                                        <p:cTn id="23"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4" dur="500"/>
                                        <p:tgtEl>
                                          <p:spTgt spid="271">
                                            <p:txEl>
                                              <p:pRg st="5" end="5"/>
                                            </p:txEl>
                                          </p:spTgt>
                                        </p:tgtEl>
                                      </p:cBhvr>
                                    </p:animEffect>
                                  </p:childTnLst>
                                </p:cTn>
                              </p:par>
                              <p:par>
                                <p:cTn id="25" nodeType="withEffect" fill="hold" presetClass="entr" presetID="22" presetSubtype="8">
                                  <p:stCondLst>
                                    <p:cond delay="0"/>
                                  </p:stCondLst>
                                  <p:childTnLst>
                                    <p:set>
                                      <p:cBhvr>
                                        <p:cTn id="26" dur="1" fill="hold">
                                          <p:stCondLst>
                                            <p:cond delay="0"/>
                                          </p:stCondLst>
                                        </p:cTn>
                                        <p:tgtEl>
                                          <p:spTgt spid="271">
                                            <p:txEl>
                                              <p:pRg st="6" end="6"/>
                                            </p:txEl>
                                          </p:spTgt>
                                        </p:tgtEl>
                                        <p:attrNameLst>
                                          <p:attrName>style.visibility</p:attrName>
                                        </p:attrNameLst>
                                      </p:cBhvr>
                                      <p:to>
                                        <p:strVal val="visible"/>
                                      </p:to>
                                    </p:set>
                                    <p:animEffect filter="wipe(left)" transition="in">
                                      <p:cBhvr additive="repl">
                                        <p:cTn id="27" dur="500"/>
                                        <p:tgtEl>
                                          <p:spTgt spid="271">
                                            <p:txEl>
                                              <p:pRg st="6" end="6"/>
                                            </p:txEl>
                                          </p:spTgt>
                                        </p:tgtEl>
                                      </p:cBhvr>
                                    </p:animEffect>
                                  </p:childTnLst>
                                </p:cTn>
                              </p:par>
                              <p:par>
                                <p:cTn id="28" nodeType="withEffect" fill="hold" presetClass="entr" presetID="22" presetSubtype="8">
                                  <p:stCondLst>
                                    <p:cond delay="0"/>
                                  </p:stCondLst>
                                  <p:childTnLst>
                                    <p:set>
                                      <p:cBhvr>
                                        <p:cTn id="29"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30" dur="500"/>
                                        <p:tgtEl>
                                          <p:spTgt spid="271">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35" dur="500"/>
                                        <p:tgtEl>
                                          <p:spTgt spid="271">
                                            <p:txEl>
                                              <p:pRg st="8" end="8"/>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38" dur="500"/>
                                        <p:tgtEl>
                                          <p:spTgt spid="271">
                                            <p:txEl>
                                              <p:pRg st="9" end="9"/>
                                            </p:txEl>
                                          </p:spTgt>
                                        </p:tgtEl>
                                      </p:cBhvr>
                                    </p:animEffect>
                                  </p:childTnLst>
                                </p:cTn>
                              </p:par>
                              <p:par>
                                <p:cTn id="39" nodeType="withEffect" fill="hold" presetClass="entr" presetID="22" presetSubtype="8">
                                  <p:stCondLst>
                                    <p:cond delay="0"/>
                                  </p:stCondLst>
                                  <p:childTnLst>
                                    <p:set>
                                      <p:cBhvr>
                                        <p:cTn id="40"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41" dur="500"/>
                                        <p:tgtEl>
                                          <p:spTgt spid="271">
                                            <p:txEl>
                                              <p:pRg st="10" end="10"/>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44" dur="500"/>
                                        <p:tgtEl>
                                          <p:spTgt spid="271">
                                            <p:txEl>
                                              <p:pRg st="11" end="11"/>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271">
                                            <p:txEl>
                                              <p:pRg st="12" end="12"/>
                                            </p:txEl>
                                          </p:spTgt>
                                        </p:tgtEl>
                                        <p:attrNameLst>
                                          <p:attrName>style.visibility</p:attrName>
                                        </p:attrNameLst>
                                      </p:cBhvr>
                                      <p:to>
                                        <p:strVal val="visible"/>
                                      </p:to>
                                    </p:set>
                                    <p:animEffect filter="wipe(left)" transition="in">
                                      <p:cBhvr additive="repl">
                                        <p:cTn id="47" dur="500"/>
                                        <p:tgtEl>
                                          <p:spTgt spid="271">
                                            <p:txEl>
                                              <p:pRg st="12" end="1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271">
                                            <p:txEl>
                                              <p:pRg st="13" end="13"/>
                                            </p:txEl>
                                          </p:spTgt>
                                        </p:tgtEl>
                                        <p:attrNameLst>
                                          <p:attrName>style.visibility</p:attrName>
                                        </p:attrNameLst>
                                      </p:cBhvr>
                                      <p:to>
                                        <p:strVal val="visible"/>
                                      </p:to>
                                    </p:set>
                                    <p:animEffect filter="wipe(left)" transition="in">
                                      <p:cBhvr additive="repl">
                                        <p:cTn id="50" dur="500"/>
                                        <p:tgtEl>
                                          <p:spTgt spid="27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ructures and Functions of Living Organisms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hazards caused by agents of diseases that effect living organism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how biotechnology is used to affect living organism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Molecular Biology </a:t>
            </a:r>
            <a:r>
              <a:rPr b="1" lang="en-US" sz="2600" spc="-1" strike="noStrike">
                <a:solidFill>
                  <a:srgbClr val="000000"/>
                </a:solidFill>
                <a:latin typeface="Trebuchet MS"/>
              </a:rPr>
              <a: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composition of various substances as it relates to their ability to serve as a source of energy and building materials for growth and repair of organisms. </a:t>
            </a:r>
            <a:r>
              <a:rPr b="1"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6840" y="1609560"/>
            <a:ext cx="7620120" cy="501984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Geological Time</a:t>
            </a:r>
            <a:endParaRPr b="0" lang="en-US" sz="26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relationship between genetic</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variation and an organism’s ability to adapt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its environment</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t>
            </a:r>
            <a:r>
              <a:rPr b="0" lang="en-US" sz="2300" spc="-1" strike="noStrike">
                <a:solidFill>
                  <a:srgbClr val="6c6c6c"/>
                </a:solidFill>
                <a:latin typeface="Trebuchet MS"/>
              </a:rPr>
              <a:t>	</a:t>
            </a:r>
            <a:r>
              <a:rPr b="0" lang="en-US" sz="2300" spc="-1" strike="noStrike">
                <a:solidFill>
                  <a:srgbClr val="6c6c6c"/>
                </a:solidFill>
                <a:latin typeface="Trebuchet MS"/>
              </a:rPr>
              <a:t>Summarize the use of evidence drawn from</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geology, fossils, and comparative anatomy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form the basis for biological classification systems and the theory of evolu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 Infer the age of Earth and relative age of rocks and fossils from index fossils and ordering of rock layers (relative dating and radioactive dating).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  Explain the use of fossils, ice cores, composition of sedimentary rocks, faults, and igneous rock formations found in rock layers as evidence of the history of the Earth and its changing life forms.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c6c6c"/>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fontScale="98000"/>
          </a:bodyPr>
          <a:p>
            <a:pPr marL="312480" indent="-312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Chemistry</a:t>
            </a:r>
            <a:r>
              <a:rPr b="1" lang="en-US" sz="2400" spc="-1" strike="noStrike">
                <a:solidFill>
                  <a:srgbClr val="000000"/>
                </a:solidFill>
                <a:latin typeface="Trebuchet MS"/>
              </a:rPr>
              <a:t>.</a:t>
            </a:r>
            <a:endParaRPr b="0" lang="en-US" sz="24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Classify matter as elements, compounds, or mixtures based on how the atoms are packed together in arrang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B) Explain how the physical properties of elements and their reactivity have been used to produce the current model of the Periodic Table of el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 Compare physical changes such as size, shape and state to chemical changes that are the result of a chemical reaction to include changes in temperature, color, formation of a gas or precipitate.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 Explain how the idea of atoms and a balanced chemical equation support the law of conservation of mass. </a:t>
            </a:r>
            <a:r>
              <a:rPr b="0" lang="en-US" sz="2100" spc="-1" strike="noStrike">
                <a:solidFill>
                  <a:srgbClr val="6c6c6c"/>
                </a:solidFill>
                <a:latin typeface="Trebuchet MS"/>
              </a:rPr>
              <a:t>	</a:t>
            </a:r>
            <a:endParaRPr b="0" lang="en-US" sz="2100" spc="-1" strike="noStrike">
              <a:solidFill>
                <a:srgbClr val="6c6c6c"/>
              </a:solidFill>
              <a:latin typeface="Trebuchet MS"/>
            </a:endParaRPr>
          </a:p>
          <a:p>
            <a:pPr lvl="1" marL="510120" indent="-223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Energy: Conservation and Transfer</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environmental consequences of the various methods of obtaining, transforming, and distributing energ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 Explain the implications of the depletion of renewable and nonrenewable energy resources and the importance of conserva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system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ow food, water, shelter, and space effect populatio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ducers, consumers, and decompos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od webs</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LCS Staff</cp:lastModifiedBy>
  <dcterms:modified xsi:type="dcterms:W3CDTF">2013-08-23T13:24:36Z</dcterms:modified>
  <cp:revision>80</cp:revision>
  <dc:subject/>
  <dc:title>Biology  Mr. Loveday</dc:title>
</cp:coreProperties>
</file>